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99EFD-8C28-41DD-AD54-6C97AEE08D0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420FA-22B2-4E68-ACF6-FDA9810562C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7126E-629C-4753-9FE8-71DCAB296F8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3C4A2-5891-4541-A1A7-4FF5A2701E6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67444-D6E0-48CC-8C4E-BA6F3E2A1EE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FCFB8-6C0D-454E-AA84-F747AA487DD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FF78C-D239-45F1-A10A-70B0E76F8D2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B289A-37AD-40CC-93F5-E1443B1C846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CDDB9-9F18-49FD-924C-FBCA083A2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D27A6-9CEB-4C23-84CF-18CC2C6E0C7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4B228-3B2C-4805-93A9-15E7B7D0F66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830D6-9959-4F11-9034-B978AB0881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9CE6-1198-4E06-B2FB-EC69F8A252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AF27-9EC6-4F45-9C98-822FC533F9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DE00-438E-4E5F-98CC-8A858A29B8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DC23-35F6-465C-B8F5-A70393DE11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59AF-89B4-4933-AFD9-D7E48F1105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E4D0-A194-472D-A004-751705A4E5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C458-AEF4-485C-A787-09F2304157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4AD7-D007-4568-BB09-84992D99CD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55F54-1C2B-4E38-AECF-F55DD6BE54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8148-2AA8-4FDF-BE61-12029D26A7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5A94-E8BB-4C31-958C-B7B0FEE500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344D-DDA8-4442-83E2-0DCDE9BA02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"/>
          <p:cNvPicPr/>
          <p:nvPr/>
        </p:nvPicPr>
        <p:blipFill>
          <a:blip r:embed="rId5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FE94-8F0F-4769-9015-ECDD241D66C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8FB3-219E-4A2D-85BD-E32593F7F9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"/>
          <p:cNvPicPr/>
          <p:nvPr/>
        </p:nvPicPr>
        <p:blipFill>
          <a:blip r:embed="rId2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n.org/%23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0197-2FD3-466E-9503-90AFA54D8C9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70080" y="1981080"/>
            <a:ext cx="11531520" cy="901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isierung von Ressourcen bereits in RDF zur Kennzeichnung von Listen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ädika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weist dem Subjekt das Objekt als Typ z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bjekt aufgefasst als Bezeichner für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er die durch das Subjekt bezeichnete Ressource (als sog.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Instanz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angehört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9" name="Picture 3" descr=""/>
          <p:cNvPicPr/>
          <p:nvPr/>
        </p:nvPicPr>
        <p:blipFill>
          <a:blip r:embed="rId1"/>
          <a:stretch/>
        </p:blipFill>
        <p:spPr>
          <a:xfrm>
            <a:off x="3808440" y="3213000"/>
            <a:ext cx="8066160" cy="2616480"/>
          </a:xfrm>
          <a:prstGeom prst="rect">
            <a:avLst/>
          </a:prstGeom>
          <a:ln w="0">
            <a:noFill/>
          </a:ln>
        </p:spPr>
      </p:pic>
      <p:sp>
        <p:nvSpPr>
          <p:cNvPr id="480" name="Oval 4"/>
          <p:cNvSpPr/>
          <p:nvPr/>
        </p:nvSpPr>
        <p:spPr>
          <a:xfrm>
            <a:off x="3835440" y="4559400"/>
            <a:ext cx="2921040" cy="140976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3F6D-F07B-4168-AEFE-04D267C8B61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t „Semantic Web - Grundlagen“ als Instanz der (neu definierten) Klasse „Lehrbu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zugehörigkeit ist nicht exklusiv, z.B. mit o.g. Tripel gleichzeitig möglich: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Unterhaltsam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llgemein: a priori syntaktisch keine eindeutige Unterscheidung zwischen Individuen- und Klassenbezeichnern möglich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uch in der Realität Charakterisierung manchmal schwierig, beispielsweise für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un.org/#UR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6222-C42D-4BF7-9C37-2A5A71192C6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e Klasse aller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och manchmal eindeutige Kennzeichnung einer URI als Klassenbezeichner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 durch Typung der betreffenden URI als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s:Lehrbuch   rdf:type   rdfs:Class 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st also die „Klasse aller Klassen“ und enthält sich damit auch selbst, d.h. das folgende Tripel ist immer wahr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  rdf:type   rdfs:Class  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BDF3-FABF-4802-B829-223CA345FEB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 - Motiv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gebe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oblem: Suche nach Instanzen der Klasse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liefert kein Result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keit: Hinzufügen vo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öst das Problem aber nur für die eine Ressourc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tomatisches Hinzufügen für alle Instanzen führt zu unnötig großen RDF-Dokumen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CBF6-B078-49B4-9C3D-ED3DEEA4DF1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innvoller: einmalige Aussage, dass jedes Lehrbuch auch ein Buch ist, d.h. jed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ist automatisch auch ein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2F82-A833-4AE5-AA85-EF435F752AB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630720" indent="-405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 ist reflextiv, d.h. jede Klasse ist Unterklasse von sich selbst, so dass z.B. gilt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Lehrbuch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mgekehrt: Festlegung der Gleichheit zweier Klassen durch gegenseitige Unterklassenbeziehung, etwa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ospital   rdfs:subClassOf   ex:Krankenhaus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Krankenhaus   rdfs:subClassOf   ex:Hospital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52ED-3EFF-4E60-B707-B64B6E4D4A1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Üblich: nicht nur einzelne Unterklassenbeziehungen sondern ganze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(auch: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Taxonomien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z.B.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rdfs:subClassOf   ex:Buch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        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Zeitschrift   rdfs:subClassOf   ex:Printmedium 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in RDFS-Semantik verankert: Transitivität der </a:t>
            </a: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-Property, d.h. es folgt automatisch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B543-DC4C-4F45-8FEF-9BB767E0A09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onders ausgepräg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twa in Biologie (z.B.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fikation von Lebe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.B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oologische Einord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ung des modern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s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7429680" y="1847880"/>
            <a:ext cx="5562360" cy="78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RDF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="http://www.w3.org/1999/02/22-rdf-syntax-ns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s="http://www.w3.org/2000/01/rdf-schema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ex="http://www.semantic-web-grundlagen.de/Beispiele#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Ani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Chordat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Chorda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Ani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Mam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S¨auge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Chordat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Primate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Primat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Mam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Primates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inidae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oderner 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o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:RDF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65CB-D532-4C66-ABBD-BEA1D7BB4F8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uitive Parallele zur Mengenlehre: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entspricht     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</a:t>
            </a:r>
            <a:br>
              <a:rPr sz="54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entspricht     </a:t>
            </a:r>
            <a:r>
              <a:rPr b="0" lang="en-US" sz="1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</a:t>
            </a:r>
            <a:endParaRPr b="0" lang="en-US" sz="5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chtfertigt beispielsweise auch die Reflexivität und Transitivität von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2D82-FF39-43AB-B490-E6114B95E82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in RDF/XML-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en bei Angabe von Klasseninstanzen möglich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br>
              <a:rPr sz="2600"/>
            </a:br>
            <a:br>
              <a:rPr sz="26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Stelle v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Description rdf:about= "&amp;ex;SebastianRudolph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rdf:type rdf:resource= "&amp;ex;HomoSapiens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/rdf:Description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mentsprechend auch</a:t>
            </a:r>
            <a:br>
              <a:rPr sz="42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/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RDF Schema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5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1" name="Picture 12" descr=""/>
          <p:cNvPicPr/>
          <p:nvPr/>
        </p:nvPicPr>
        <p:blipFill>
          <a:blip r:embed="rId2"/>
          <a:srcRect l="33175" t="59995" r="21726" b="32560"/>
          <a:stretch/>
        </p:blipFill>
        <p:spPr>
          <a:xfrm>
            <a:off x="8940960" y="6591240"/>
            <a:ext cx="1930320" cy="33012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63"/>
          <p:cNvSpPr/>
          <p:nvPr/>
        </p:nvSpPr>
        <p:spPr>
          <a:xfrm>
            <a:off x="660240" y="4545000"/>
            <a:ext cx="6108840" cy="43164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Rectangle 64"/>
          <p:cNvSpPr/>
          <p:nvPr/>
        </p:nvSpPr>
        <p:spPr>
          <a:xfrm>
            <a:off x="-12600" y="9455040"/>
            <a:ext cx="1501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zwei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0A65-4829-4EF4-A4CB-32C3DFA8C6A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esou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Ressourcen (also sämtliche Elemente des Gegenstandsbereiches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= die Ressourcen, die durch Prädikats-URIs referenziert werden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List, rdf:Seq, rdf:Bag, rdf:Alt, rdfs:Contai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 verschiedener Arten von Lis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, die eine Enthaltenseinsbeziehung darstell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4E2C-95BA-44F1-BF6B-A87D12FAC5D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4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XML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Werte des vordefinierten Datentyps XMLLi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Literalwerte (enthält also alle Datentypen als Unter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atatyp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Datentypen (ist also wie rdfs:Class eine Klasse von 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reifizierten Aussagen (s. dor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EB00-5925-4262-8894-4568857CB99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DBD0-F8EA-4807-A828-F334F4A04AE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ndere Bezeichnungen: Relationen, Bezieh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Propertys sind in RDF(S) nicht (wie in OOP) speziellen Klassen zugeodn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-Bezeichner in Tripeln üblicherweise an Prädikatsstell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en, auf welche Art zwei Ressourcen zueinander in Beziehung ste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athematisch oft dargestellt als Menge von Paar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verheiratet_mit = {(Adam,Eva),(Brad,Angelina),...}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RI wird als Property-Bezeichner gekennzeichnet durch entsprechende Typu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   rdf:type   rdf:Property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0CA2-7618-44F5-9BBC-F6A53A900F7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9800" y="2425680"/>
            <a:ext cx="1242072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ähnlich zu Unter-/Oberklassen auch Unter-/Oberpropertys denkbar und sinnvol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rstellung in RDFS mittels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z.B.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glücklichVerheiratetMit   rdf:subPropertyOf   rdf:verheiratetMit   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, aus dem Tripel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glücklich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zu schlussfolgern,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ss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B564-54FD-46FF-AB07-9D56A75AC15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0B84-B854-4E63-BA1F-2DAD72CE218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häufig: Property kann sinnvoll nur ganz bestimmte Ressourcen verbinden, z.B. verbindet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nur Publikationen mit Verlagen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.h. für alle URIs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, b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ex:verlegtBei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s auch gilt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rdf:type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b   rdf:type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kann in RDFS direkt kodiert werden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domain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range   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uch zur Angabe von Datentypen für Literale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hatAlter   rdfs:range   xsd:nonNegativeInteger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52A1-A984-4F45-AC52-7C53AAC6E8C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opertyeinschränkungen bieten die einzige Möglichkeit, semantische Zusammenhänge zwischen Propertys und Klassen zu spezifizier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chtung: Propertyeinschränkungen wirken global und konjunktiv, z.B.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Kochbuch   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Märchenbuch   . 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edeutet: jede Entität, von der jemand Autor ist, ist </a:t>
            </a: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gleichzeitig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Kochbuch und Märchenb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her: als domain/range immer allgemeinste mögliche Klasse verwend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233A-7934-48EC-B6A8-C5542306724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D784-8FD9-41BA-9424-0F25B70E673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zur Erinnerung: offene Listen in RDF: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039680" y="3098880"/>
            <a:ext cx="10923840" cy="354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5188-3EAB-4B84-855F-98F5ECD1702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B7FB-580F-4329-8A33-62292CBFB0A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als Oberklasse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eq, rdf:Bag, rdf:Al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lemente sind keine Individuen i.e.S. sondern selbst Property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intendierte Semantik: jede Property, die aussagt, dass das Subjekt im Objekt enthalten ist, ist Instanz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gilt also insbesondere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1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2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tc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75A0-C082-46F3-86C2-FB31950CF0F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Property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member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Oberproperty aller i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nthaltenen Propertys, also die „universelle Enthaltenseinsrelation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mit in RDFS-Semantik verankert: wann immer für eine Property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gilt,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p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sofort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rdfs:member   b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C933-8B4C-469A-943A-C62C83BF0B3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16FC-9E68-4967-8C96-1B5E6B1F5BC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ex:vermutet "Der Butler hat den Gärtner ermordet."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auf Literal-Objekt kann schlecht in anderen Aussagen Bezug genommen werden (keine URI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 ex:vermutet  ex:derButlerHatDenGärtnerErmordet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innere Struktur der dass-Aussage geht verlor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F9C4-9829-4559-A742-710B9868300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inzelne dass-Aussage leicht in RDF modellierba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butler   ex:hatErmordet   ex:gärtner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wünschenswert: ganzes RDF-Tripel als Objekt eines anderen Tripels; ist aber kein gültiges RD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3EF4-AB33-422F-AB00-91762A8C30E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7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Oval 6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Oval 7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4212360" y="4872960"/>
            <a:ext cx="2382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3912120" y="7933680"/>
            <a:ext cx="3085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Line 10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Line 11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Oval 12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Line 13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Line 14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Line 15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Line 16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1494360" y="6790680"/>
            <a:ext cx="2103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4181400" y="6917760"/>
            <a:ext cx="2545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7440840" y="6790680"/>
            <a:ext cx="189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F8ED-4A2B-421D-888F-FFDEDD09E22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7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9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161240" y="4833720"/>
            <a:ext cx="2015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3859920" y="7894440"/>
            <a:ext cx="261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Line 9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Line 10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7746-09EB-4141-ABF5-D7DB1453925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9" name="Oval 3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Oval 4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Oval 5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4147920" y="4834080"/>
            <a:ext cx="173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Line 8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Oval 9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Line 10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Line 11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Line 12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Rectangle 13"/>
          <p:cNvSpPr/>
          <p:nvPr/>
        </p:nvSpPr>
        <p:spPr>
          <a:xfrm>
            <a:off x="1437840" y="6751800"/>
            <a:ext cx="153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14"/>
          <p:cNvSpPr/>
          <p:nvPr/>
        </p:nvSpPr>
        <p:spPr>
          <a:xfrm>
            <a:off x="4122720" y="6878880"/>
            <a:ext cx="185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7387920" y="6751800"/>
            <a:ext cx="138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CF56-C4B0-4CBC-B4D2-89BEFD110E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reifiziertes Tripel muss nicht unbedingt gelt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wäre auch nicht immer sinnvoll, z.B. bei Aussagen wie: „Der Detektiv bezweifelt, dass der Butler den Gärtner ermordet hat.“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dies gewünscht ist, muss das originale (unreifizierte) Tripel dem RDF-Dokument nochmals hinzugefügt werd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er Klassenbezeichner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ient zur Kennzeichnung aller solcher Aussagen-Hilfskno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auf eine Aussage nicht (extern) Bezug genommen wird, kann der entsprechende Hilfsknoten ein bnode sei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9A9B-F8F9-4B31-A538-75D298A7591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Übungsaufgabe: noch eine Kriminalgeschichte..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584280" y="3224160"/>
            <a:ext cx="11866320" cy="546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6BE8-2928-4976-88F5-3741843308D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6242-7651-41EA-9EB1-8F88864B253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CBE4-7AAA-4DE1-88E8-2D28BDDDEE0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bei Programmiersprachen manchmal Hinzufügen von Kommentaren (ohne Auswirkung auf Semantik)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ck: Erhöhung der Verständlichkeit für menschlichen Nutz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empfiehlt sich (z.B. aus Tool-Kompatibilitätsgründen) auch dieses Wissen als Graph zu repräsent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o: Satz von Propertys, die diesem Zweck die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5D14-9F79-4A25-A6CA-4AE04200C9C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alternativen Namen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oftmals sind URIs schwer lesbar; zumindest „unhandli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urch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zugewiesener Name wird z.B. häufig von Tools bei der graphischen Darstellung verwend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spiel (incl. Sprachinformation)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F6C4-509A-4E2B-854C-5E781B58918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mment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umfangreichen Kommentar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nhaltet z.B. natürlichsprachliche Definition einer neu eingeführten Klasse - erleichtert spätere intentionsgemäße Wiederverwendu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eeAlso, rdfs:definedBy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ies, die Ressourcen (URIs!) angeben, die weitere Informationen bzw. eine Definition der Subjekt-Ressource bereitstellen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ED92-8544-4973-BC3B-3A87AC72E01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wendungsbeispi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4" name="Picture 3" descr=""/>
          <p:cNvPicPr/>
          <p:nvPr/>
        </p:nvPicPr>
        <p:blipFill>
          <a:blip r:embed="rId1"/>
          <a:stretch/>
        </p:blipFill>
        <p:spPr>
          <a:xfrm>
            <a:off x="2171880" y="2971800"/>
            <a:ext cx="9727920" cy="5738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EE6A-A0B5-4C2D-BD78-4406A3F74F7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EBF8-9A60-4A39-B3DC-B5A7F134692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 den durch RDFS bereitgestellten Sprachmitteln können bestimmte Gegenstandsbereiche bereits in wichtigen Aspekten semantisch erfass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f der Basis der speziellen Semantik von RDFS kann schon ein gewisses Maß impliziten Wissens geschlussfolger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hin stellt RDFS eine (wenn auch noch vergleichsweise wenig ausdrucksstarke) Ontologiesprache d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8B61-3F5F-4C5A-836C-C1648F5513F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203040" y="1892160"/>
            <a:ext cx="8026560" cy="30229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" descr=""/>
          <p:cNvPicPr/>
          <p:nvPr/>
        </p:nvPicPr>
        <p:blipFill>
          <a:blip r:embed="rId2"/>
          <a:stretch/>
        </p:blipFill>
        <p:spPr>
          <a:xfrm>
            <a:off x="3529080" y="3195720"/>
            <a:ext cx="9450360" cy="6507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1342-9063-4B49-9412-72299E15062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647640" y="4114800"/>
            <a:ext cx="11633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XML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38" name="Group 3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39" name="AutoShape 4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0" name="AutoShape 5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1" name="AutoShape 6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7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8"/>
          <p:cNvGrpSpPr/>
          <p:nvPr/>
        </p:nvGrpSpPr>
        <p:grpSpPr>
          <a:xfrm>
            <a:off x="938160" y="5029200"/>
            <a:ext cx="11017800" cy="3978360"/>
            <a:chOff x="938160" y="5029200"/>
            <a:chExt cx="11017800" cy="3978360"/>
          </a:xfrm>
        </p:grpSpPr>
        <p:grpSp>
          <p:nvGrpSpPr>
            <p:cNvPr id="644" name="Group 9"/>
            <p:cNvGrpSpPr/>
            <p:nvPr/>
          </p:nvGrpSpPr>
          <p:grpSpPr>
            <a:xfrm>
              <a:off x="4437360" y="5029200"/>
              <a:ext cx="3079800" cy="754200"/>
              <a:chOff x="4437360" y="5029200"/>
              <a:chExt cx="3079800" cy="754200"/>
            </a:xfrm>
          </p:grpSpPr>
          <p:sp>
            <p:nvSpPr>
              <p:cNvPr id="645" name="Oval 10"/>
              <p:cNvSpPr/>
              <p:nvPr/>
            </p:nvSpPr>
            <p:spPr>
              <a:xfrm>
                <a:off x="4437360" y="5029200"/>
                <a:ext cx="307980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6" name="Rectangle 11"/>
              <p:cNvSpPr/>
              <p:nvPr/>
            </p:nvSpPr>
            <p:spPr>
              <a:xfrm>
                <a:off x="4741560" y="5164560"/>
                <a:ext cx="2471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Description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47" name="Group 12"/>
            <p:cNvGrpSpPr/>
            <p:nvPr/>
          </p:nvGrpSpPr>
          <p:grpSpPr>
            <a:xfrm>
              <a:off x="5289120" y="6108840"/>
              <a:ext cx="1370880" cy="753840"/>
              <a:chOff x="5289120" y="6108840"/>
              <a:chExt cx="1370880" cy="753840"/>
            </a:xfrm>
          </p:grpSpPr>
          <p:sp>
            <p:nvSpPr>
              <p:cNvPr id="648" name="Oval 13"/>
              <p:cNvSpPr/>
              <p:nvPr/>
            </p:nvSpPr>
            <p:spPr>
              <a:xfrm>
                <a:off x="5311800" y="6108840"/>
                <a:ext cx="1323720" cy="75384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9" name="Rectangle 14"/>
              <p:cNvSpPr/>
              <p:nvPr/>
            </p:nvSpPr>
            <p:spPr>
              <a:xfrm>
                <a:off x="5289120" y="6248160"/>
                <a:ext cx="13708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typ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50" name="Group 15"/>
            <p:cNvGrpSpPr/>
            <p:nvPr/>
          </p:nvGrpSpPr>
          <p:grpSpPr>
            <a:xfrm>
              <a:off x="938160" y="6324480"/>
              <a:ext cx="1841400" cy="546120"/>
              <a:chOff x="938160" y="6324480"/>
              <a:chExt cx="1841400" cy="546120"/>
            </a:xfrm>
          </p:grpSpPr>
          <p:sp>
            <p:nvSpPr>
              <p:cNvPr id="651" name="Oval 16"/>
              <p:cNvSpPr/>
              <p:nvPr/>
            </p:nvSpPr>
            <p:spPr>
              <a:xfrm>
                <a:off x="938160" y="6324480"/>
                <a:ext cx="1841400" cy="54612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52" name="Rectangle 17"/>
              <p:cNvSpPr/>
              <p:nvPr/>
            </p:nvSpPr>
            <p:spPr>
              <a:xfrm>
                <a:off x="1335240" y="6354720"/>
                <a:ext cx="10476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ID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53" name="Line 18"/>
            <p:cNvSpPr/>
            <p:nvPr/>
          </p:nvSpPr>
          <p:spPr>
            <a:xfrm flipH="1">
              <a:off x="2671560" y="5562720"/>
              <a:ext cx="1841760" cy="86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19"/>
            <p:cNvSpPr/>
            <p:nvPr/>
          </p:nvSpPr>
          <p:spPr>
            <a:xfrm>
              <a:off x="1363320" y="7396200"/>
              <a:ext cx="9766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5" name="Line 20"/>
            <p:cNvSpPr/>
            <p:nvPr/>
          </p:nvSpPr>
          <p:spPr>
            <a:xfrm>
              <a:off x="5950080" y="5778360"/>
              <a:ext cx="18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6" name="Line 21"/>
            <p:cNvSpPr/>
            <p:nvPr/>
          </p:nvSpPr>
          <p:spPr>
            <a:xfrm flipH="1">
              <a:off x="5164560" y="6756480"/>
              <a:ext cx="43344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Line 22"/>
            <p:cNvSpPr/>
            <p:nvPr/>
          </p:nvSpPr>
          <p:spPr>
            <a:xfrm>
              <a:off x="1805040" y="6870600"/>
              <a:ext cx="1440" cy="430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8" name="Rectangle 23"/>
            <p:cNvSpPr/>
            <p:nvPr/>
          </p:nvSpPr>
          <p:spPr>
            <a:xfrm>
              <a:off x="1271160" y="8556120"/>
              <a:ext cx="7320960" cy="451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American Typewriter"/>
                  <a:ea typeface="American Typewriter"/>
                  <a:hlinkClick r:id="rId1"/>
                </a:rPr>
                <a:t>http://www.w3.org/2000/01/rdf-schema#</a:t>
              </a: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Class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Line 24"/>
            <p:cNvSpPr/>
            <p:nvPr/>
          </p:nvSpPr>
          <p:spPr>
            <a:xfrm>
              <a:off x="4974120" y="7950240"/>
              <a:ext cx="288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Line 25"/>
            <p:cNvSpPr/>
            <p:nvPr/>
          </p:nvSpPr>
          <p:spPr>
            <a:xfrm>
              <a:off x="7115760" y="5676840"/>
              <a:ext cx="173376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61" name="Group 26"/>
            <p:cNvGrpSpPr/>
            <p:nvPr/>
          </p:nvGrpSpPr>
          <p:grpSpPr>
            <a:xfrm>
              <a:off x="9530640" y="7188120"/>
              <a:ext cx="2425320" cy="754200"/>
              <a:chOff x="9530640" y="7188120"/>
              <a:chExt cx="2425320" cy="754200"/>
            </a:xfrm>
          </p:grpSpPr>
          <p:sp>
            <p:nvSpPr>
              <p:cNvPr id="662" name="Oval 27"/>
              <p:cNvSpPr/>
              <p:nvPr/>
            </p:nvSpPr>
            <p:spPr>
              <a:xfrm>
                <a:off x="953064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3" name="Rectangle 28"/>
              <p:cNvSpPr/>
              <p:nvPr/>
            </p:nvSpPr>
            <p:spPr>
              <a:xfrm>
                <a:off x="971172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64" name="Group 29"/>
            <p:cNvGrpSpPr/>
            <p:nvPr/>
          </p:nvGrpSpPr>
          <p:grpSpPr>
            <a:xfrm>
              <a:off x="3759480" y="7188120"/>
              <a:ext cx="2425320" cy="754200"/>
              <a:chOff x="3759480" y="7188120"/>
              <a:chExt cx="2425320" cy="754200"/>
            </a:xfrm>
          </p:grpSpPr>
          <p:sp>
            <p:nvSpPr>
              <p:cNvPr id="665" name="Oval 30"/>
              <p:cNvSpPr/>
              <p:nvPr/>
            </p:nvSpPr>
            <p:spPr>
              <a:xfrm>
                <a:off x="375948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6" name="Rectangle 31"/>
              <p:cNvSpPr/>
              <p:nvPr/>
            </p:nvSpPr>
            <p:spPr>
              <a:xfrm>
                <a:off x="394056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67" name="Group 32"/>
            <p:cNvGrpSpPr/>
            <p:nvPr/>
          </p:nvGrpSpPr>
          <p:grpSpPr>
            <a:xfrm>
              <a:off x="7904880" y="5994360"/>
              <a:ext cx="3110040" cy="754200"/>
              <a:chOff x="7904880" y="5994360"/>
              <a:chExt cx="3110040" cy="754200"/>
            </a:xfrm>
          </p:grpSpPr>
          <p:sp>
            <p:nvSpPr>
              <p:cNvPr id="668" name="Oval 33"/>
              <p:cNvSpPr/>
              <p:nvPr/>
            </p:nvSpPr>
            <p:spPr>
              <a:xfrm>
                <a:off x="7904880" y="5994360"/>
                <a:ext cx="311004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9" name="Rectangle 34"/>
              <p:cNvSpPr/>
              <p:nvPr/>
            </p:nvSpPr>
            <p:spPr>
              <a:xfrm>
                <a:off x="8244720" y="6139080"/>
                <a:ext cx="2428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subClassOf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70" name="Line 35"/>
            <p:cNvSpPr/>
            <p:nvPr/>
          </p:nvSpPr>
          <p:spPr>
            <a:xfrm>
              <a:off x="9743400" y="6756480"/>
              <a:ext cx="86688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1" name="Rectangle 36"/>
            <p:cNvSpPr/>
            <p:nvPr/>
          </p:nvSpPr>
          <p:spPr>
            <a:xfrm>
              <a:off x="9516960" y="8583840"/>
              <a:ext cx="23878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2" name="Line 37"/>
            <p:cNvSpPr/>
            <p:nvPr/>
          </p:nvSpPr>
          <p:spPr>
            <a:xfrm>
              <a:off x="10827720" y="7950240"/>
              <a:ext cx="180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FDC4-6EC9-4B86-8A9C-8A823A37496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914400" y="4051440"/>
            <a:ext cx="11417400" cy="67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eres Datenmode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re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aben eine festgelegte Bedeutu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ubject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predicat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MotorVehic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76" name="Group 3"/>
          <p:cNvGrpSpPr/>
          <p:nvPr/>
        </p:nvGrpSpPr>
        <p:grpSpPr>
          <a:xfrm>
            <a:off x="7130880" y="8688240"/>
            <a:ext cx="1727280" cy="736560"/>
            <a:chOff x="7130880" y="8688240"/>
            <a:chExt cx="1727280" cy="736560"/>
          </a:xfrm>
        </p:grpSpPr>
        <p:sp>
          <p:nvSpPr>
            <p:cNvPr id="677" name="Oval 4"/>
            <p:cNvSpPr/>
            <p:nvPr/>
          </p:nvSpPr>
          <p:spPr>
            <a:xfrm>
              <a:off x="7130880" y="8688240"/>
              <a:ext cx="1727280" cy="7365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8" name="Rectangle 5"/>
            <p:cNvSpPr/>
            <p:nvPr/>
          </p:nvSpPr>
          <p:spPr>
            <a:xfrm>
              <a:off x="7270560" y="8820000"/>
              <a:ext cx="14461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Truck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9" name="Group 6"/>
          <p:cNvGrpSpPr/>
          <p:nvPr/>
        </p:nvGrpSpPr>
        <p:grpSpPr>
          <a:xfrm>
            <a:off x="10051920" y="8690040"/>
            <a:ext cx="2438280" cy="749160"/>
            <a:chOff x="10051920" y="8690040"/>
            <a:chExt cx="2438280" cy="749160"/>
          </a:xfrm>
        </p:grpSpPr>
        <p:sp>
          <p:nvSpPr>
            <p:cNvPr id="680" name="Oval 7"/>
            <p:cNvSpPr/>
            <p:nvPr/>
          </p:nvSpPr>
          <p:spPr>
            <a:xfrm>
              <a:off x="10213920" y="8690040"/>
              <a:ext cx="2112840" cy="7491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1" name="Rectangle 8"/>
            <p:cNvSpPr/>
            <p:nvPr/>
          </p:nvSpPr>
          <p:spPr>
            <a:xfrm>
              <a:off x="10051920" y="8831160"/>
              <a:ext cx="2438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rdfs:Clas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82" name="Line 9"/>
          <p:cNvSpPr/>
          <p:nvPr/>
        </p:nvSpPr>
        <p:spPr>
          <a:xfrm>
            <a:off x="8842320" y="9045720"/>
            <a:ext cx="1422360" cy="1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83" name="Group 10"/>
          <p:cNvGrpSpPr/>
          <p:nvPr/>
        </p:nvGrpSpPr>
        <p:grpSpPr>
          <a:xfrm>
            <a:off x="928800" y="8636040"/>
            <a:ext cx="3720600" cy="850680"/>
            <a:chOff x="928800" y="8636040"/>
            <a:chExt cx="3720600" cy="850680"/>
          </a:xfrm>
        </p:grpSpPr>
        <p:sp>
          <p:nvSpPr>
            <p:cNvPr id="684" name="Oval 11"/>
            <p:cNvSpPr/>
            <p:nvPr/>
          </p:nvSpPr>
          <p:spPr>
            <a:xfrm>
              <a:off x="928800" y="8636040"/>
              <a:ext cx="3720600" cy="850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Rectangle 12"/>
            <p:cNvSpPr/>
            <p:nvPr/>
          </p:nvSpPr>
          <p:spPr>
            <a:xfrm>
              <a:off x="1422360" y="8798040"/>
              <a:ext cx="2733120" cy="5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86" name="Line 13"/>
          <p:cNvSpPr/>
          <p:nvPr/>
        </p:nvSpPr>
        <p:spPr>
          <a:xfrm flipH="1">
            <a:off x="4649400" y="9058320"/>
            <a:ext cx="24447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Rectangle 14"/>
          <p:cNvSpPr/>
          <p:nvPr/>
        </p:nvSpPr>
        <p:spPr>
          <a:xfrm>
            <a:off x="8837280" y="8470800"/>
            <a:ext cx="142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Rectangle 15"/>
          <p:cNvSpPr/>
          <p:nvPr/>
        </p:nvSpPr>
        <p:spPr>
          <a:xfrm>
            <a:off x="4560840" y="8470800"/>
            <a:ext cx="2730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89" name="Group 16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90" name="AutoShape 17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1" name="AutoShape 18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AutoShape 19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3" name="Rectangle 20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AC70-38E4-43ED-BB4B-944325A94B4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bietet universelle Möglichkeit zur Kodierung von faktischen Daten im Web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= Aussagen über einzelne Ressourcen (Individuen) und deren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Aussagen über generische Mengen von Individuen (Klassen), z.B. Verlage, Organisationen, Personen etc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1"/>
          <a:stretch/>
        </p:blipFill>
        <p:spPr>
          <a:xfrm>
            <a:off x="2146320" y="3517920"/>
            <a:ext cx="8705880" cy="749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78A0-3ED4-44D9-A0DC-FDCBE41464B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96" name="Rectangle 2"/>
          <p:cNvSpPr/>
          <p:nvPr/>
        </p:nvSpPr>
        <p:spPr>
          <a:xfrm>
            <a:off x="952560" y="4257720"/>
            <a:ext cx="11379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 Schema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eder anderes Datenmod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 </a:t>
            </a: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den speziell interpretie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Line 3"/>
          <p:cNvSpPr/>
          <p:nvPr/>
        </p:nvSpPr>
        <p:spPr>
          <a:xfrm flipV="1">
            <a:off x="6525360" y="7073640"/>
            <a:ext cx="3240" cy="16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6661440" y="7620120"/>
            <a:ext cx="92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-a“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Line 5"/>
          <p:cNvSpPr/>
          <p:nvPr/>
        </p:nvSpPr>
        <p:spPr>
          <a:xfrm>
            <a:off x="6310440" y="7074000"/>
            <a:ext cx="431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Line 6"/>
          <p:cNvSpPr/>
          <p:nvPr/>
        </p:nvSpPr>
        <p:spPr>
          <a:xfrm flipV="1">
            <a:off x="6309720" y="6756120"/>
            <a:ext cx="21564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1" name="Line 7"/>
          <p:cNvSpPr/>
          <p:nvPr/>
        </p:nvSpPr>
        <p:spPr>
          <a:xfrm flipH="1" flipV="1">
            <a:off x="6525720" y="6756120"/>
            <a:ext cx="21780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5218920" y="6263640"/>
            <a:ext cx="255708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MotorVehic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Rectangle 9"/>
          <p:cNvSpPr/>
          <p:nvPr/>
        </p:nvSpPr>
        <p:spPr>
          <a:xfrm>
            <a:off x="5870160" y="8778240"/>
            <a:ext cx="126936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Tru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04" name="Group 10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705" name="AutoShape 11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6" name="AutoShape 12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13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Rectangle 14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82DD-4709-4E29-B551-C5951ED762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erhin wünschenswert: Spezifikation der logischen Zusammenhänge zwischen Individuen, Klassen und Beziehungen, um möglichst viel Semantik des Gegenstandsbereiches einzufangen, z.B.: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Verlage sind Organisationen."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Nur Personen schreiben Bücher.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Datenbanksprache: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4708-D3E9-4F18-B523-5ED90D54F30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956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eil der W3C Recommendation zu RDF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möglicht Spezifikation von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schemat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(auch: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terminolog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pezielles RDF-Vokabular (also: jedes RDFS-Dokument ist ein RDF-Dokumen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amensraum (i.d.R. abgekürzt mi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: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w3.org/2000/01/rdf-schema#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5DD4-43AE-44AF-9CAD-6B3C252BD5C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91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jedoch: Vokabular nicht themengebunden (wie z.B. bei FOAF), sondern generisch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rlaubt die Spezifikation (von Teilen) der Semantik beliebiger RDF-Vokabulare (ist also eine Art „Metavokabular“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orteil: jede Software mit RDFS-Unterstützung interpretiert jedes vermittels RDFS definierte Vokabular korrek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unktionalität macht RDFS zu einer Ontologiesprache (für leichtgewichtige - engl.: lightweight - Ontologien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 little semantics goes a long way.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9F5D-D7F6-4746-93DA-32424B455AA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5:49:41Z</dcterms:created>
  <dc:creator/>
  <dc:description/>
  <cp:keywords/>
  <dc:language>en-US</dc:language>
  <cp:lastModifiedBy>Sebastian Rudolph</cp:lastModifiedBy>
  <dcterms:modified xsi:type="dcterms:W3CDTF">2009-11-02T22:22:13Z</dcterms:modified>
  <cp:revision>4</cp:revision>
  <dc:subject/>
  <dc:title>Folie 1</dc:title>
</cp:coreProperties>
</file>